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3A02-31E9-4B75-8D79-CA16EC88D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14C2-84D0-4158-A646-7CEF949E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8F5D-0D30-444B-B84D-58AB618CC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9C6B-148A-4CA0-8276-F4EAAB8C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379F-1AB8-49C0-83EB-92484CFB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8C11-12F4-4948-B90E-CCD8C475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5AA9-B279-47BF-A138-14D4562C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680F-F96B-4CA5-AA7C-DBB87767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5059-8701-4F29-9494-0038A838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4AD6-47E0-4958-91D1-8FC53D93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036F-E680-455F-A476-A06E8338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692A-870D-4B06-A519-ED94AB78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7C54-7735-4977-A8EE-C25F8D4D7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382840"/>
            <a:ext cx="6858000" cy="6761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86200" y="8747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Broadway"/>
              </a:rPr>
              <a:t>Vitamin Water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76201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ake your drink work for you. A rainbow of flavors that not only taste good but is good for    yo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3200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dd some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Color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To Your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13:15:52Z</dcterms:created>
  <dc:creator>WPS</dc:creator>
  <dc:description/>
  <dc:language>en-US</dc:language>
  <cp:lastModifiedBy>WPS</cp:lastModifiedBy>
  <dcterms:modified xsi:type="dcterms:W3CDTF">2008-06-02T12:55:01Z</dcterms:modified>
  <cp:revision>4</cp:revision>
  <dc:subject/>
  <dc:title>Slide 1</dc:title>
</cp:coreProperties>
</file>